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B17-A092-4953-B90C-830C74E3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B9C-A6F0-4A3E-960C-5C08FD6A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189-18E3-462F-800B-D181E391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D69-B50F-4DD9-B5C4-0506D604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8836-ACD7-45D2-A80E-4A9BD563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7502-3F12-4DDA-9C0D-35DC400D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1BDE-B3FB-41FF-9142-B979EB44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84BA-DF45-452A-927C-FD2ED050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362-A7A7-4B57-ABA1-FA5A5DE4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6EEE-E5B6-4539-B8A8-A27E322A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65EA-8DB2-4F16-9448-F8661BF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13B-7A4C-415F-9048-8964B94A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392F-A82A-43E8-8543-98EA3F2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CE05-3712-464D-A3BC-68965B4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907-2B3E-49B1-AF43-DF99515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D2A-3E47-471C-BB45-7E55B696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2F9E-316E-4DEC-9F38-EF3D98CB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565-B9D3-4F18-A70A-695BE4F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D23-F185-4C90-BDAD-9FC30D1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898-1A0E-42CD-94A4-0C024D78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7C2-8F16-4CD8-9C83-5FE2CBA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39A-B933-445F-9232-05BDD6F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514-D4F8-47E2-85D9-5A63B86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B38-3F4E-4DD2-AF46-2F95CE3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F560-7015-4797-8F72-FC081B76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2200-0B1C-4557-8165-DCE8260E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May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4:30-6:00; Tuesday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Gliffy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 </cp:lastModifiedBy>
  <dcterms:modified xsi:type="dcterms:W3CDTF">2009-05-18T17:18:19Z</dcterms:modified>
  <cp:revision>62</cp:revision>
  <dc:subject/>
  <dc:title>ACG 5405 Intro</dc:title>
</cp:coreProperties>
</file>